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48CA-4B0C-4C07-AE8F-03B1737FF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forbes.com/fdc/welcome_mjx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giangleblog.wordpress.com/2011/05/02/edit-5-dna-structure-group-b/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tudent.ccbcmd.edu/~gkaiser/biotutorials/dna/fg4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stanford.edu/group/ccr/blog/2009/04/a_closer_look_1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urpleopurple.com/inventions-and-inventors/structure-of-DN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ss physic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ni-tuebingen.de/ziegler/history/friedrich_miescher/friedrich_miesch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ell.sio2.be/moyens/1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logie-lk.de/showthread.php?t=129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textbookofbacteriology.net/phage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iscovermagazine.com/2009/apr/28-next-miracle-antibiotic-could-spawn-next-superb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0573-3772-4BAF-917E-721F85B7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CF02-DB65-4DD9-BF2B-FE049365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3BA5-A10F-426D-8B7F-466489A60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178D-4DDE-4598-85B8-A149BE44F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F72F-FECC-4CFF-950F-7535A010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D141-C205-4BB8-B1FB-23D16D0C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28C9-36ED-4D40-AD16-F3E3F10D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2669-2A83-4D17-B4B8-A70FAFC7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A36E-2AF3-4E0D-B631-E42B462C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F7E0-BD6F-4143-A1BA-510B44F8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4AC8-FA0B-417B-B627-EEEC1D5B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E3DE-D267-4055-B51A-FB4A63AE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3D23-C313-4A22-9176-ECD954015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naftb.org/dnaftb/15/concept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762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&amp; The Code of Life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98720" y="609480"/>
            <a:ext cx="6945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373040" y="609480"/>
            <a:ext cx="6396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win Chargaff (194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d DNA from different organisms and measured levels of the nitrogenous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found tha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t. of adenine = amt. of thy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t. of cytosine = amt. of guan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salind Frank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d X-ray diffraction images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ed the double helix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48320" y="2120760"/>
            <a:ext cx="380988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mes Watson &amp; Francis Crick (195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posed model of DNA with a double helix of 2 anti-parallel str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n the Nobel Prize in 1962 (with Maurice Wilkin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97000" y="609480"/>
            <a:ext cx="4950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derick Mies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192480" y="1981080"/>
            <a:ext cx="275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edrich Miescher (186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d a substance he called “nuclein” from the nuclei of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ftb.org/dnaftb/15/concept/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achim Hammerling (1930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s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etabularia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single-celled alga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d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cle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ed genetic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0" y="2211480"/>
            <a:ext cx="41148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62240" y="609480"/>
            <a:ext cx="6418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fred Hershey &amp; Martha Chase (195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s with bacteriophage T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d hereditary material is DNA not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48320" y="2784600"/>
            <a:ext cx="380988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07960" y="609480"/>
            <a:ext cx="6328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08160" y="609480"/>
            <a:ext cx="4925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ebus Levene (1920’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ed the 3 components of D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oxyribose sug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sphate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enous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0:16:36Z</dcterms:created>
  <dc:creator>rubina khan</dc:creator>
  <dc:description/>
  <dc:language>en-US</dc:language>
  <cp:lastModifiedBy>rubina khan</cp:lastModifiedBy>
  <dcterms:modified xsi:type="dcterms:W3CDTF">2013-03-28T17:07:12Z</dcterms:modified>
  <cp:revision>121</cp:revision>
  <dc:subject/>
  <dc:title>Molecular Genetics</dc:title>
</cp:coreProperties>
</file>